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AC72-1000-4EA4-B404-DF29C7EDD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786-59D2-455D-BACF-6E88E9421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95D0-9E86-4F90-8F76-69A8E852B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65CF-2C48-42A2-BC49-9688F43F8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57FC-BB65-484F-9028-DE05C8C24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5DC4-0553-46B3-87C2-FA980E732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340-04F0-40C5-8CB3-6C9AB57A9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96D0-3F39-47E8-BDB3-7BA6A2DF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9DC8-72EC-4975-A7AF-B1713ACE7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37EC-530C-4C0B-B024-CEE04E292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B8A2-7E1D-4287-AD1F-0A578E43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1B48-6C8B-4F5B-A4BB-D705C220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47B62-92A5-4F5B-83D9-11ECF974C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13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380880"/>
            <a:ext cx="6400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«Великая Отечественная война </a:t>
            </a:r>
            <a:br>
              <a:rPr sz="2800"/>
            </a:b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истории моей семь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минус.mp3" descr=""/>
          <p:cNvPicPr/>
          <p:nvPr/>
        </p:nvPicPr>
        <p:blipFill>
          <a:blip r:embed="rId2"/>
          <a:stretch/>
        </p:blipFill>
        <p:spPr>
          <a:xfrm>
            <a:off x="1219320" y="63244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3200400" y="1905120"/>
            <a:ext cx="5638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Автор: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Захарова Мария, ученица 10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Муниципального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общеобразовательного учреждения Новомалыклинской средней общеобразовательной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мени Героя Советского Союза М.С. Черно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с. Новая Малыкла Ульян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6000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Ему повезло: вернулся домой живым, не был даже ранен.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Достойно воспитал 8 детей.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У него 27 внуков, рождаются и растут правн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Одайкин С"/>
          <p:cNvPicPr/>
          <p:nvPr/>
        </p:nvPicPr>
        <p:blipFill>
          <a:blip r:embed="rId2"/>
          <a:srcRect l="0" t="0" r="0" b="25104"/>
          <a:stretch/>
        </p:blipFill>
        <p:spPr>
          <a:xfrm>
            <a:off x="304920" y="2819520"/>
            <a:ext cx="3541680" cy="3809880"/>
          </a:xfrm>
          <a:prstGeom prst="rect">
            <a:avLst/>
          </a:prstGeom>
          <a:ln w="38160">
            <a:solidFill>
              <a:srgbClr val="993300"/>
            </a:solidFill>
            <a:miter/>
          </a:ln>
        </p:spPr>
      </p:pic>
      <p:pic>
        <p:nvPicPr>
          <p:cNvPr id="84" name="Picture 5" descr="Одайкин С"/>
          <p:cNvPicPr/>
          <p:nvPr/>
        </p:nvPicPr>
        <p:blipFill>
          <a:blip r:embed="rId3"/>
          <a:stretch/>
        </p:blipFill>
        <p:spPr>
          <a:xfrm>
            <a:off x="4191120" y="2819520"/>
            <a:ext cx="4647960" cy="3809880"/>
          </a:xfrm>
          <a:prstGeom prst="rect">
            <a:avLst/>
          </a:prstGeom>
          <a:ln w="34920">
            <a:solidFill>
              <a:srgbClr val="993300"/>
            </a:solidFill>
            <a:miter/>
          </a:ln>
        </p:spPr>
      </p:pic>
    </p:spTree>
  </p:cSld>
  <p:transition spd="slow" advTm="18000">
    <p:strips dir="ld"/>
  </p:transition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3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5638320"/>
            <a:ext cx="891540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4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8e8e8"/>
                </a:solidFill>
                <a:latin typeface="Times New Roman"/>
              </a:rPr>
              <a:t>Они не думали об этом, они – воевали, мы, правнуки, не должны забыть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228600" y="3886200"/>
            <a:ext cx="8534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Monotype Corsiva"/>
              </a:rPr>
              <a:t>«Все, что было не со мной, помню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28600" y="449568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e8e8e8"/>
                </a:solidFill>
                <a:latin typeface="Times New Roman"/>
              </a:rPr>
              <a:t>Говорят, что жить надо так, чтоб о тебе помнили семь поколений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0">
    <p:strips dir="ld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5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Использованные источники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емейный арх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айт Министерства Обороны РФ ОБД «Подвиг народ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Сайт Министерства Обороны РФ ОБД «Мемориал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33"/>
                </a:solidFill>
                <a:latin typeface="Arial"/>
              </a:rPr>
              <a:t>Фотохроника Великой Отечественной войны (бои за г. Шнайдемюл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89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8e8e8"/>
                </a:solidFill>
                <a:latin typeface="Monotype Corsiva"/>
              </a:rPr>
              <a:t>Я знаю о войне лишь понаслышке,    Но вновь и вновь в мои приходит сны Безусый паренёк, совсем мальчишка, Который не вернулся с той войны..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889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strips dir="l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90760" y="228600"/>
            <a:ext cx="464796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Ладамин Николай Матвеевич – родной брат моего прадеда по папиной ли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Родился в с. Старая Куликовка Новомалыклинского района Ульяновской обла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В феврале 1942 года, в неполных девятнадцать лет, был призван на военную службу Новомалыклинским РВК Ульяновской обла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Ладамин"/>
          <p:cNvPicPr/>
          <p:nvPr/>
        </p:nvPicPr>
        <p:blipFill>
          <a:blip r:embed="rId2"/>
          <a:stretch/>
        </p:blipFill>
        <p:spPr>
          <a:xfrm>
            <a:off x="380880" y="304920"/>
            <a:ext cx="3548160" cy="4952880"/>
          </a:xfrm>
          <a:prstGeom prst="rect">
            <a:avLst/>
          </a:prstGeom>
          <a:ln w="50760">
            <a:solidFill>
              <a:srgbClr val="993300"/>
            </a:solidFill>
            <a:miter/>
          </a:ln>
        </p:spPr>
      </p:pic>
    </p:spTree>
  </p:cSld>
  <p:transition spd="slow" advTm="15000">
    <p:strips dir="ld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" dur="3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267080" y="30492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Младший лейтенант  Ладамин Н.М. был командиром взвода автоматчиков 1283 стрелкового пол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Участвовал в боях за города: Седелец, Варшаву, Ковель, Прагу – за что имеет благодарности от коман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2771640" cy="3981600"/>
          </a:xfrm>
          <a:prstGeom prst="rect">
            <a:avLst/>
          </a:prstGeom>
          <a:ln w="31680">
            <a:solidFill>
              <a:srgbClr val="800000"/>
            </a:solidFill>
            <a:miter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2552760" cy="35812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52" name="Picture 7" descr=""/>
          <p:cNvPicPr/>
          <p:nvPr/>
        </p:nvPicPr>
        <p:blipFill>
          <a:blip r:embed="rId4"/>
          <a:stretch/>
        </p:blipFill>
        <p:spPr>
          <a:xfrm>
            <a:off x="2209680" y="2286000"/>
            <a:ext cx="2382840" cy="365760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53" name="Picture 8" descr=""/>
          <p:cNvPicPr/>
          <p:nvPr/>
        </p:nvPicPr>
        <p:blipFill>
          <a:blip r:embed="rId5"/>
          <a:stretch/>
        </p:blipFill>
        <p:spPr>
          <a:xfrm>
            <a:off x="4343400" y="3191040"/>
            <a:ext cx="2562120" cy="366696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p:transition spd="slow" advTm="20000">
    <p:strips dir="l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8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7" dur="3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8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9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4" dur="3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1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0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0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80880" y="228600"/>
            <a:ext cx="838224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В конце января полк, в котором служил Ладамин Н.М., вступил на территорию Германии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В районе Шнайдемюля наши войска вели бои по уничтожению окружённого в городе гарнизона противник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Советские бойцы, действуя штурмовыми группами, выбили немцев из сильно укреплённых позиц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шнайд1"/>
          <p:cNvPicPr/>
          <p:nvPr/>
        </p:nvPicPr>
        <p:blipFill>
          <a:blip r:embed="rId2"/>
          <a:stretch/>
        </p:blipFill>
        <p:spPr>
          <a:xfrm>
            <a:off x="3962520" y="2438280"/>
            <a:ext cx="5181480" cy="313560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56" name="Picture 7" descr="шнайд"/>
          <p:cNvPicPr/>
          <p:nvPr/>
        </p:nvPicPr>
        <p:blipFill>
          <a:blip r:embed="rId3"/>
          <a:stretch/>
        </p:blipFill>
        <p:spPr>
          <a:xfrm>
            <a:off x="0" y="3774960"/>
            <a:ext cx="5486400" cy="308304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57" name="Text Box 8"/>
          <p:cNvSpPr/>
          <p:nvPr/>
        </p:nvSpPr>
        <p:spPr>
          <a:xfrm>
            <a:off x="5867280" y="594360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(Фотохроника войны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Фото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Спиридонова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trips dir="l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3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30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3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0" dur="3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5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5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6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 образцовое выполнение боевых заданий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9 сентября 1944 года приказом 60-стрелковой дивизии </a:t>
            </a:r>
            <a:br>
              <a:rPr sz="2400"/>
            </a:b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47 армии награжден Орденом Красной Звезды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НМ1-2"/>
          <p:cNvPicPr/>
          <p:nvPr/>
        </p:nvPicPr>
        <p:blipFill>
          <a:blip r:embed="rId2"/>
          <a:stretch/>
        </p:blipFill>
        <p:spPr>
          <a:xfrm rot="21109800">
            <a:off x="380880" y="1828800"/>
            <a:ext cx="6096240" cy="47116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60" name="Picture 10" descr="кр"/>
          <p:cNvPicPr/>
          <p:nvPr/>
        </p:nvPicPr>
        <p:blipFill>
          <a:blip r:embed="rId3"/>
          <a:stretch/>
        </p:blipFill>
        <p:spPr>
          <a:xfrm rot="932400">
            <a:off x="6172200" y="2819520"/>
            <a:ext cx="2590920" cy="25192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p:transition spd="slow" advTm="20000">
    <p:strips dir="l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77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5" dur="770" fill="hold"/>
                                        <p:tgtEl>
                                          <p:spTgt spid="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95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197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80880" y="304920"/>
            <a:ext cx="838224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В феврале 1945 года в с. Новая Малыкла  Матвею Митрофановичу и Матрене Никифоровне принесли трагическое извещени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«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Ваш сын лейтенант Ладамин Николай Матвеевич убит 8 февраля 1945 года. Похоронен: г. Шнайдемюль (Германия) западная окраина, перекресток дорог шоссейной и железной, западнее 100 метров»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Ему не исполнилось и 22-х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А до победы оставалось ровно три месяца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3048120" y="3089160"/>
            <a:ext cx="6095880" cy="376884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63" name="AutoShape 33"/>
          <p:cNvSpPr/>
          <p:nvPr/>
        </p:nvSpPr>
        <p:spPr>
          <a:xfrm>
            <a:off x="380880" y="1066680"/>
            <a:ext cx="8458200" cy="10670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34"/>
          <p:cNvSpPr/>
          <p:nvPr/>
        </p:nvSpPr>
        <p:spPr>
          <a:xfrm flipH="1">
            <a:off x="5790960" y="2133720"/>
            <a:ext cx="2895480" cy="167616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0000">
    <p:strips dir="ld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3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77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6" dur="770" fill="hold"/>
                                        <p:tgtEl>
                                          <p:spTgt spid="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8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0" dur="77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5" dur="2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9" dur="2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00400" y="3733560"/>
            <a:ext cx="510552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Одайкин С"/>
          <p:cNvPicPr/>
          <p:nvPr/>
        </p:nvPicPr>
        <p:blipFill>
          <a:blip r:embed="rId2"/>
          <a:stretch/>
        </p:blipFill>
        <p:spPr>
          <a:xfrm>
            <a:off x="5943600" y="228600"/>
            <a:ext cx="2932200" cy="35812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380880" y="457200"/>
            <a:ext cx="55627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Одайкин Семен Васильевич (год рождения – 1909) – второй прадед по папиной ли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Ушел на войну в марте 1942 года, оставив семью и четверых  дете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В мирное время – крестьянин-колхозник, на войне – связист-проволочник артиллерийских частей, телефонист штабной батареи 2-ого гвардейского стрелкового корпуса с марта 1942 по октябрь 1945 г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военный билет 1"/>
          <p:cNvPicPr/>
          <p:nvPr/>
        </p:nvPicPr>
        <p:blipFill>
          <a:blip r:embed="rId3"/>
          <a:stretch/>
        </p:blipFill>
        <p:spPr>
          <a:xfrm>
            <a:off x="0" y="3124080"/>
            <a:ext cx="3227400" cy="158292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69" name="Picture 10" descr="военный билет 2"/>
          <p:cNvPicPr/>
          <p:nvPr/>
        </p:nvPicPr>
        <p:blipFill>
          <a:blip r:embed="rId4"/>
          <a:stretch/>
        </p:blipFill>
        <p:spPr>
          <a:xfrm>
            <a:off x="1981080" y="3809880"/>
            <a:ext cx="3306960" cy="169560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70" name="Picture 11" descr="военный билет 3"/>
          <p:cNvPicPr/>
          <p:nvPr/>
        </p:nvPicPr>
        <p:blipFill>
          <a:blip r:embed="rId5"/>
          <a:stretch/>
        </p:blipFill>
        <p:spPr>
          <a:xfrm>
            <a:off x="3733920" y="4724280"/>
            <a:ext cx="3227400" cy="165276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71" name="Picture 12" descr="военный билет 4"/>
          <p:cNvPicPr/>
          <p:nvPr/>
        </p:nvPicPr>
        <p:blipFill>
          <a:blip r:embed="rId6"/>
          <a:stretch/>
        </p:blipFill>
        <p:spPr>
          <a:xfrm>
            <a:off x="5921280" y="5240160"/>
            <a:ext cx="3222720" cy="161784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p:transition spd="slow" advTm="22000">
    <p:strips dir="ld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indefinite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0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indefinite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0" descr="май 44"/>
          <p:cNvPicPr/>
          <p:nvPr/>
        </p:nvPicPr>
        <p:blipFill>
          <a:blip r:embed="rId2"/>
          <a:stretch/>
        </p:blipFill>
        <p:spPr>
          <a:xfrm>
            <a:off x="0" y="0"/>
            <a:ext cx="4367160" cy="685800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sp>
        <p:nvSpPr>
          <p:cNvPr id="73" name="WordArt 11"/>
          <p:cNvSpPr txBox="1"/>
          <p:nvPr/>
        </p:nvSpPr>
        <p:spPr>
          <a:xfrm>
            <a:off x="152280" y="5638680"/>
            <a:ext cx="41148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С боевыми друзьями.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Одайкин С.В. первый слева. 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Май 1944 года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5715000" y="228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Награжд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>
            <a:off x="4343400" y="7621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Орденом               Красной Звезды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(№ 1934333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6858000" y="29718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Медалью    «За отвагу» </a:t>
            </a:r>
            <a:br>
              <a:rPr sz="1800"/>
            </a:b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(№ 114399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6"/>
          <p:cNvSpPr/>
          <p:nvPr/>
        </p:nvSpPr>
        <p:spPr>
          <a:xfrm>
            <a:off x="4572000" y="495288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Медалью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             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«За победу над Германией» (12.11.1946 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7" descr="кр"/>
          <p:cNvPicPr/>
          <p:nvPr/>
        </p:nvPicPr>
        <p:blipFill>
          <a:blip r:embed="rId3"/>
          <a:stretch/>
        </p:blipFill>
        <p:spPr>
          <a:xfrm>
            <a:off x="6629400" y="838080"/>
            <a:ext cx="2028960" cy="197352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79" name="Picture 19" descr="за победу над германией"/>
          <p:cNvPicPr/>
          <p:nvPr/>
        </p:nvPicPr>
        <p:blipFill>
          <a:blip r:embed="rId4"/>
          <a:stretch/>
        </p:blipFill>
        <p:spPr>
          <a:xfrm>
            <a:off x="7086600" y="4114800"/>
            <a:ext cx="1447920" cy="243828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  <p:pic>
        <p:nvPicPr>
          <p:cNvPr id="80" name="Picture 20" descr="за отвагу"/>
          <p:cNvPicPr/>
          <p:nvPr/>
        </p:nvPicPr>
        <p:blipFill>
          <a:blip r:embed="rId5"/>
          <a:stretch/>
        </p:blipFill>
        <p:spPr>
          <a:xfrm>
            <a:off x="4800600" y="2209680"/>
            <a:ext cx="1335240" cy="2590920"/>
          </a:xfrm>
          <a:prstGeom prst="rect">
            <a:avLst/>
          </a:prstGeom>
          <a:ln w="25560">
            <a:solidFill>
              <a:srgbClr val="800000"/>
            </a:solidFill>
            <a:miter/>
          </a:ln>
        </p:spPr>
      </p:pic>
    </p:spTree>
  </p:cSld>
  <p:transition spd="slow" advTm="30000">
    <p:strips dir="ld"/>
  </p:transition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77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5" dur="770" fill="hold"/>
                                        <p:tgtEl>
                                          <p:spTgt spid="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7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39" dur="77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77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770" fill="hold"/>
                                        <p:tgtEl>
                                          <p:spTgt spid="8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3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5" dur="77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77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7" dur="770" fill="hold"/>
                                        <p:tgtEl>
                                          <p:spTgt spid="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9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71" dur="77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4-12-26T07:34:26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